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216-FB83-4F54-98C3-6F554B08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010-4762-41C5-93D3-B504D0F1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19F-52C8-47E2-9DDD-D3DC9C4B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A5D-C194-43D7-A158-7FF9A822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7B4F-ABEA-4362-999B-61DFD7AC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9CA2-D48A-4886-802F-96724026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81D7-4C0D-44D6-A2EB-1BFA5F87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C838-072C-473B-BB56-8C641990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EB0C-A4D3-49C7-98C4-0E0B37C0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4C46-E2B9-4E76-B826-70FAA103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D5BA-7AA8-44FA-9327-853636DF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5AC-7180-410D-A097-9E641C88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92A8-62BE-4D1C-A024-7FB74B7B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A003-C18F-43F9-8A32-845E3E17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7146-E812-4442-B4AB-ECC579FF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8370-F433-4E92-924D-7ABA2E34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EF38-DD78-4081-B181-60CAE9F8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A354-BFAA-4000-9DA2-9619854E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067E-EF11-485C-B43A-886CAA72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E71FC-D1DA-4955-B0F1-DD716FBB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CD16-A3EE-4892-9209-BEB4FCBD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1D9C0-5A88-4659-9E16-A41956DE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964-FD04-4FF1-A587-F94E9533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3166-6901-4CEE-B94F-24C42B25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40B5-3DF0-4BC3-9300-386A9FDE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6A1DA-7181-4289-9B86-B60C52B9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651F3-B263-4C47-A97B-13261713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ED22E-507E-46C0-9075-017CDB77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C5CB-A262-46DA-BEAF-248C76A0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A653-CEE9-4A81-9263-9C38A5A7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EB8A5-6566-4242-AC7D-F3991603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6D9BF-2D8C-4588-9898-42E74644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6638B-F09C-45CE-9B73-08ED4C5E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18E-E882-43FA-A2A9-D5D6EDA5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71038-7BEF-4D2F-92E5-21D944DE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AFC11-71F8-4D74-88D0-1F8DA5C2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FF3D5-8D2E-4D6B-81A6-4FDC1BCD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40767-3CCF-47DD-A2CE-0A4A4EA3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EB7FA-1250-4720-91DB-B37E0B2A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3283B-41C5-424C-B38E-545B9622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4C61C-AF7A-429F-AD8A-4FCD0B5B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2D94B-11CD-4D4F-8E3C-612A471E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D19AD-E0E7-4846-96CC-C6A974E9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0CD-A462-4703-B6A1-8759CEB2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2E2-3E7A-4C71-AC12-A984217E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0AC-C28D-4EA7-B24A-8495177D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C54-B603-47FB-A77E-2A3C3C1F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9C0-FC3E-4611-8D6E-2988325F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96B8-5B17-4B21-893D-FA2496F11E5E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9E62-29D2-4620-8E13-06C483EEB03D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82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30DA-207D-40DF-95FA-E57134CB35F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174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1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2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7385-54D7-43E1-B73D-BEA0181D39B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5280" y="137124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K – 5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PSM/RtI Seminar: Getting the Work Done</a:t>
            </a:r>
            <a:br>
              <a:rPr sz="4400"/>
            </a:b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523520" y="5714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bruary 7, 2010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Next Step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iers 1, 2, and 3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Gathering Baseline Data  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cheduling Meeting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ff particip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rent particip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Interventions:  Research-based Strategies and Programs </a:t>
            </a:r>
            <a:endParaRPr b="0" i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Providing Interventions: </a:t>
            </a: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Who &amp; When</a:t>
            </a:r>
            <a:endParaRPr b="0" i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Progress Monitoring:  </a:t>
            </a: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Who, What, How Often</a:t>
            </a:r>
            <a:endParaRPr b="0" i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er II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ier 4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Exit Criteria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 do we use Exit Criteri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do we choose and write Exit Criteria goals and objectiv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 we progress monitor during the implementation of the IEP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6:41:13Z</dcterms:created>
  <dc:creator>user</dc:creator>
  <dc:description/>
  <dc:language>en-US</dc:language>
  <cp:lastModifiedBy>user</cp:lastModifiedBy>
  <dcterms:modified xsi:type="dcterms:W3CDTF">2011-01-31T17:18:38Z</dcterms:modified>
  <cp:revision>3</cp:revision>
  <dc:subject/>
  <dc:title>K – 5  PSM/RtI Seminar: Getting the Work Done </dc:title>
</cp:coreProperties>
</file>